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366E-4576-44B8-8DAD-39173C898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947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21840"/>
            <a:ext cx="82947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0A8F-0842-4741-A54E-665562C6B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74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7000" y="1599840"/>
            <a:ext cx="40474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21840"/>
            <a:ext cx="40474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7000" y="3921840"/>
            <a:ext cx="40474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9DB7E-A63B-4AAD-8F97-599991574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708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1600" y="1599840"/>
            <a:ext cx="26708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6360" y="1599840"/>
            <a:ext cx="26708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21840"/>
            <a:ext cx="26708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1600" y="3921840"/>
            <a:ext cx="26708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6360" y="3921840"/>
            <a:ext cx="26708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EDCA8-9E3F-494B-9C70-5A4A6C4E47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947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C927-BB3F-4132-A8D0-98A1CEAD0A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947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041BC-13E5-4B09-8BAD-110A60269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74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7000" y="1599840"/>
            <a:ext cx="40474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3482-CF9A-414C-B2C6-68D965734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7575A-432A-4B2C-8ADB-1870F96F3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227160"/>
            <a:ext cx="82947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DEE3-F36F-40BC-A265-4209AAD13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74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000" y="1599840"/>
            <a:ext cx="40474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21840"/>
            <a:ext cx="40474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DEE1-B946-413B-9F00-FD797E587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74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599840"/>
            <a:ext cx="40474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7000" y="3921840"/>
            <a:ext cx="40474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9B4C-3248-4C3B-9363-502A7F27E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74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599840"/>
            <a:ext cx="40474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21840"/>
            <a:ext cx="82947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8A27-F0C8-4CEC-9B36-FEAB5302C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947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lvl="1" marL="63972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lvl="2" marL="100476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lvl="3" marL="127944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lvl="4" marL="155412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lvl="5" marL="1554120" indent="-228600">
              <a:spcBef>
                <a:spcPts val="601"/>
              </a:spcBef>
              <a:buClr>
                <a:srgbClr val="2f2b2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lvl="6" marL="1554120" indent="-228600">
              <a:spcBef>
                <a:spcPts val="601"/>
              </a:spcBef>
              <a:buClr>
                <a:srgbClr val="2f2b2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DE59-43DA-4EC7-9B68-7AF48D5255A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661824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D8DF-3AAD-4223-BAC6-C3BE6B3CD5CE}" type="slidenum">
              <a:rPr b="0" lang="en-US" sz="2400" spc="-1" strike="noStrike">
                <a:solidFill>
                  <a:srgbClr val="2f2b2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bhecker.com/ip-HelloTabBar.zip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0320" y="542880"/>
            <a:ext cx="7723440" cy="475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2d00ea"/>
                </a:solidFill>
                <a:latin typeface="Verdana"/>
              </a:rPr>
              <a:t>iOS - iPhone/iPad </a:t>
            </a:r>
            <a:br>
              <a:rPr sz="5700"/>
            </a:br>
            <a:br>
              <a:rPr sz="5700"/>
            </a:br>
            <a:r>
              <a:rPr b="0" lang="en-US" sz="4000" spc="-1" strike="noStrike">
                <a:solidFill>
                  <a:srgbClr val="2f2b20"/>
                </a:solidFill>
                <a:latin typeface="Verdana"/>
              </a:rPr>
              <a:t>Application Development</a:t>
            </a:r>
            <a:br>
              <a:rPr sz="4000"/>
            </a:br>
            <a:r>
              <a:rPr b="0" lang="en-US" sz="4000" spc="-1" strike="noStrike">
                <a:solidFill>
                  <a:srgbClr val="2f2b20"/>
                </a:solidFill>
                <a:latin typeface="Verdana"/>
              </a:rPr>
              <a:t>Workshop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2f2b20"/>
                </a:solidFill>
                <a:latin typeface="Verdana"/>
              </a:rPr>
              <a:t>Part 1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EB19-5FBA-49FF-965D-A863BA8C5B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Source Control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7080" y="1536840"/>
            <a:ext cx="487692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8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Asks for a location for Source Control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35880" indent="-223920">
              <a:lnSpc>
                <a:spcPct val="8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By Default, it will use a local GIT repository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35880" indent="-223920">
              <a:lnSpc>
                <a:spcPct val="8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New developers not used to source control – this is extremely useful!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35880" indent="-223920">
              <a:lnSpc>
                <a:spcPct val="8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It keeps track of versions, lets you see what’s changed, and will undoubtedly be used in any team project you run into in the “real” world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35880" indent="-223920">
              <a:lnSpc>
                <a:spcPct val="8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GIT and Subversion are two popular source controls systems – there are many others to choose from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62" name="Content Placeholder 4" descr="Screen Shot 2012-02-20 at 11.33.51 PM.png"/>
          <p:cNvPicPr/>
          <p:nvPr/>
        </p:nvPicPr>
        <p:blipFill>
          <a:blip r:embed="rId1"/>
          <a:srcRect l="0" t="-32486" r="0" b="-32486"/>
          <a:stretch/>
        </p:blipFill>
        <p:spPr>
          <a:xfrm>
            <a:off x="5094360" y="1536840"/>
            <a:ext cx="3657600" cy="45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2DAD-372D-4E43-BB9E-223A638E6C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5160" y="198000"/>
            <a:ext cx="829476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Where do I start?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pic>
        <p:nvPicPr>
          <p:cNvPr id="64" name="Picture 5" descr="Screen Shot 2012-02-20 at 11.45.47 PM.png"/>
          <p:cNvPicPr/>
          <p:nvPr/>
        </p:nvPicPr>
        <p:blipFill>
          <a:blip r:embed="rId1"/>
          <a:stretch/>
        </p:blipFill>
        <p:spPr>
          <a:xfrm>
            <a:off x="135000" y="938160"/>
            <a:ext cx="8881920" cy="570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ED04-F802-4CEE-9EF1-074BEE5249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Let’s build the default project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829476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Click the Run button (upper left of the screen)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The iPad simulator will launch (You can also change this to iPhone if you want)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You will have a blank white screen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Press Command-Q to end the simulator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2B825-3BF3-4B0D-816C-D6AAE0C6A5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Quick Terminology:  MVC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829476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Model-View-Controller (MVC)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MVC is the paradigm of iOS programming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00ea"/>
                </a:solidFill>
                <a:latin typeface="Verdana"/>
              </a:rPr>
              <a:t>Model:</a:t>
            </a: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  Holds data, should know nothing of the interface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00ea"/>
                </a:solidFill>
                <a:latin typeface="Verdana"/>
              </a:rPr>
              <a:t>View:</a:t>
            </a: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  Code for getting data in/out of a view.  Deals with items like buttons, lists, tables, etc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00ea"/>
                </a:solidFill>
                <a:latin typeface="Verdana"/>
              </a:rPr>
              <a:t>Controller:</a:t>
            </a: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  Keeps the Model objects and View objects in sync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EBBC-26F1-4AAF-B8CE-8D0D33C0C3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Quick Terminology:  Delegate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AppDelegate.h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AppDelegate.m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446640" y="1536480"/>
            <a:ext cx="569736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The Delegate is essentially the “</a:t>
            </a:r>
            <a:r>
              <a:rPr b="0" lang="en-US" sz="2900" spc="-1" strike="noStrike">
                <a:solidFill>
                  <a:srgbClr val="2d00ea"/>
                </a:solidFill>
                <a:latin typeface="Verdana"/>
              </a:rPr>
              <a:t>controller</a:t>
            </a: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” of your app. It links buttons, labels and views together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.h files are header files and interfaces are defined here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.m files are implementation files.  These contain your classes, code, etc.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BF6A-6CA6-4A81-ABE8-F3791DFE2A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Quick Terminology:  Storyboard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2080" y="1599840"/>
            <a:ext cx="888192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These are new to iOS5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35880" indent="-22392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Storyboards help you graphically lay out your app before you code it.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35880" indent="-22392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It makes it easy to see the “flow” of your app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35880" indent="-22392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You are advised to use Storyboards going forward with you iOS programming adventures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35880" indent="-22392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If you have tinkered with iOS in the past, you might be asking about the xib/nibs.  They are still there, however, Storyboards offer similar functionality and make it easier to visualize your views.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35880" indent="-22392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We will not be covering nibs in this workshop.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6680-32E3-4E97-AD69-86A0ACC0C4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Quick Terminology:  ARC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7440" y="1720800"/>
            <a:ext cx="873144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00ea"/>
                </a:solidFill>
                <a:latin typeface="Verdana"/>
              </a:rPr>
              <a:t>Automatic Reference Counting</a:t>
            </a: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 (ARC)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The LLVM 3.0 compiler handles memory management for you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It is not a garbage collector!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Prior to iOS5 – memory management was the single most difficult item to grasp in Objective-C.  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Unless you have specific reasons, all of your projects should use ARC.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1085-5865-4069-9726-99D44E8154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Quick Terminology:  Unit Tests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32920" y="1599840"/>
            <a:ext cx="85186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We will not be discussing Unit Tests in this workshop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Be advised – unit tests are very useful for your programs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The tests can help you make sure your code changes are not breaking anything.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The goal is to be able to find bugs quicker and fix them before your code goes to QA (or the customer!)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0113-BD2D-41A5-A97E-3815CA7DA0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Click on the iPhone Storyboard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pic>
        <p:nvPicPr>
          <p:cNvPr id="79" name="Content Placeholder 3" descr="Screen Shot 2012-02-22 at 10.29.26 PM.png"/>
          <p:cNvPicPr/>
          <p:nvPr/>
        </p:nvPicPr>
        <p:blipFill>
          <a:blip r:embed="rId1"/>
          <a:srcRect l="5109" t="0" r="5109" b="0"/>
          <a:stretch/>
        </p:blipFill>
        <p:spPr>
          <a:xfrm>
            <a:off x="5094360" y="1536840"/>
            <a:ext cx="3657600" cy="4589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17440" y="1536840"/>
            <a:ext cx="462456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It shows a blank view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It looks like you are on a sheet of graph paper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There are two buttons – below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lvl="1" marL="639720" indent="-228600">
              <a:spcBef>
                <a:spcPts val="70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Verdana"/>
              </a:rPr>
              <a:t>First Responder</a:t>
            </a:r>
            <a:endParaRPr b="0" lang="en-US" sz="2800" spc="-1" strike="noStrike">
              <a:solidFill>
                <a:srgbClr val="2f2b20"/>
              </a:solidFill>
              <a:latin typeface="Verdana"/>
            </a:endParaRPr>
          </a:p>
          <a:p>
            <a:pPr lvl="1" marL="639720" indent="-228600">
              <a:spcBef>
                <a:spcPts val="70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Verdana"/>
              </a:rPr>
              <a:t>View Controller</a:t>
            </a:r>
            <a:endParaRPr b="0" lang="en-US" sz="2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6988-3FC9-4E26-BAA1-32EAA7090F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45720"/>
            <a:ext cx="829476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Find the Label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03040" y="1282320"/>
            <a:ext cx="4773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In Xcode, lower right hand corner, scroll until you find the object Label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39480" indent="-22608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Drag Label to the blank view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39480" indent="-22608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Double click on the Label you added, and change it to say “Hello World”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39480" indent="-22608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Do the same steps for the iPad Storyboard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83" name="Content Placeholder 4" descr="Screen Shot 2012-02-22 at 10.32.11 PM.png"/>
          <p:cNvPicPr/>
          <p:nvPr/>
        </p:nvPicPr>
        <p:blipFill>
          <a:blip r:embed="rId1"/>
          <a:srcRect l="0" t="-37811" r="0" b="-37811"/>
          <a:stretch/>
        </p:blipFill>
        <p:spPr>
          <a:xfrm>
            <a:off x="5202360" y="1536840"/>
            <a:ext cx="3657600" cy="4589280"/>
          </a:xfrm>
          <a:prstGeom prst="rect">
            <a:avLst/>
          </a:prstGeom>
          <a:ln w="0">
            <a:noFill/>
          </a:ln>
        </p:spPr>
      </p:pic>
      <p:cxnSp>
        <p:nvCxnSpPr>
          <p:cNvPr id="84" name="Straight Arrow Connector 6"/>
          <p:cNvCxnSpPr/>
          <p:nvPr/>
        </p:nvCxnSpPr>
        <p:spPr>
          <a:xfrm flipV="1">
            <a:off x="7030800" y="4649040"/>
            <a:ext cx="386280" cy="942120"/>
          </a:xfrm>
          <a:prstGeom prst="straightConnector1">
            <a:avLst/>
          </a:prstGeom>
          <a:ln w="25560">
            <a:solidFill>
              <a:srgbClr val="ff6600"/>
            </a:solidFill>
            <a:miter/>
            <a:tailEnd len="med" type="arrow" w="med"/>
          </a:ln>
        </p:spPr>
      </p:cxnSp>
      <p:cxnSp>
        <p:nvCxnSpPr>
          <p:cNvPr id="85" name="Straight Arrow Connector 8"/>
          <p:cNvCxnSpPr/>
          <p:nvPr/>
        </p:nvCxnSpPr>
        <p:spPr>
          <a:xfrm flipH="1" flipV="1">
            <a:off x="5397120" y="3163320"/>
            <a:ext cx="1758240" cy="1486440"/>
          </a:xfrm>
          <a:prstGeom prst="straightConnector1">
            <a:avLst/>
          </a:prstGeom>
          <a:ln w="25560">
            <a:solidFill>
              <a:srgbClr val="a9a57c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147B-B202-41AE-A8FF-75FE4920E0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9476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What do you need?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1890360"/>
            <a:ext cx="829476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Previous experience in another Object Oriented Programming (OOP) language will be helpful 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Some understanding of C can be helpful, but is not required.  Objective-C builds on C++.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Development Environment (IDE) is helpful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Mac computer running OS X Lion or higher!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If you plan to submit to the App Store, you will need Apple devices to do real testing on.  The simulator is not good enough.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0CA2-F5B3-4D21-9AC2-61BB483B24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Run the project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01240" y="1599840"/>
            <a:ext cx="829476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The iPad and iPhone projects should now display Hello World!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C1A7-D349-4272-ACDD-0242C5C844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7200" y="0"/>
            <a:ext cx="89568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00ea"/>
                </a:solidFill>
                <a:latin typeface="Verdana"/>
              </a:rPr>
              <a:t>Next, add two buttons to your view</a:t>
            </a:r>
            <a:endParaRPr b="0" lang="en-US" sz="36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87200" y="1164960"/>
            <a:ext cx="497232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Find the Round Rect Button, drag two to the view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Double-click on one of the buttons and type Hello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Double-click on one of the buttons and type Goodbye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Run your project, click on the buttons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90" name="Content Placeholder 5" descr="Screen Shot 2012-02-22 at 10.42.00 PM.png"/>
          <p:cNvPicPr/>
          <p:nvPr/>
        </p:nvPicPr>
        <p:blipFill>
          <a:blip r:embed="rId1"/>
          <a:srcRect l="0" t="-48728" r="0" b="-48728"/>
          <a:stretch/>
        </p:blipFill>
        <p:spPr>
          <a:xfrm>
            <a:off x="5178600" y="1536840"/>
            <a:ext cx="3657600" cy="4589280"/>
          </a:xfrm>
          <a:prstGeom prst="rect">
            <a:avLst/>
          </a:prstGeom>
          <a:ln w="0">
            <a:noFill/>
          </a:ln>
        </p:spPr>
      </p:pic>
      <p:cxnSp>
        <p:nvCxnSpPr>
          <p:cNvPr id="91" name="Straight Arrow Connector 7"/>
          <p:cNvCxnSpPr/>
          <p:nvPr/>
        </p:nvCxnSpPr>
        <p:spPr>
          <a:xfrm flipV="1">
            <a:off x="6792840" y="4717800"/>
            <a:ext cx="340200" cy="816480"/>
          </a:xfrm>
          <a:prstGeom prst="straightConnector1">
            <a:avLst/>
          </a:prstGeom>
          <a:ln w="25560">
            <a:solidFill>
              <a:srgbClr val="ff6600"/>
            </a:solidFill>
            <a:miter/>
            <a:tailEnd len="med" type="arrow" w="med"/>
          </a:ln>
        </p:spPr>
      </p:cxnSp>
      <p:cxnSp>
        <p:nvCxnSpPr>
          <p:cNvPr id="92" name="Straight Arrow Connector 9"/>
          <p:cNvCxnSpPr/>
          <p:nvPr/>
        </p:nvCxnSpPr>
        <p:spPr>
          <a:xfrm flipH="1" flipV="1">
            <a:off x="5158800" y="3696840"/>
            <a:ext cx="1848600" cy="1021680"/>
          </a:xfrm>
          <a:prstGeom prst="straightConnector1">
            <a:avLst/>
          </a:prstGeom>
          <a:ln w="25560">
            <a:solidFill>
              <a:srgbClr val="a9a57c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3F71-80B3-4E90-B93B-B219107F93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Nothing Happens – we have to tell it to do something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7200" y="1536840"/>
            <a:ext cx="46548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Click on the Assistant Editor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It looks like a tuxedo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It will be in the upper right hand corner of your screen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95" name="Content Placeholder 4" descr="Screen Shot 2012-02-22 at 11.42.13 PM.png"/>
          <p:cNvPicPr/>
          <p:nvPr/>
        </p:nvPicPr>
        <p:blipFill>
          <a:blip r:embed="rId1"/>
          <a:srcRect l="0" t="-44855" r="0" b="-44855"/>
          <a:stretch/>
        </p:blipFill>
        <p:spPr>
          <a:xfrm>
            <a:off x="5113440" y="1514520"/>
            <a:ext cx="3657600" cy="4589280"/>
          </a:xfrm>
          <a:prstGeom prst="rect">
            <a:avLst/>
          </a:prstGeom>
          <a:ln w="0">
            <a:noFill/>
          </a:ln>
        </p:spPr>
      </p:pic>
      <p:cxnSp>
        <p:nvCxnSpPr>
          <p:cNvPr id="96" name="Straight Arrow Connector 6"/>
          <p:cNvCxnSpPr/>
          <p:nvPr/>
        </p:nvCxnSpPr>
        <p:spPr>
          <a:xfrm flipV="1">
            <a:off x="5113080" y="2905920"/>
            <a:ext cx="756360" cy="9039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498E-5D77-4C6C-AF27-09BEFA4F36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Linking the ViewObject to your ViewController…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01600" y="2001960"/>
            <a:ext cx="467208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You will see your ViewObject in the middle of the screen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The right hand side of the screen should be the ViewController.h file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99" name="Content Placeholder 4" descr="Screen Shot 2012-02-22 at 11.45.33 PM.png"/>
          <p:cNvPicPr/>
          <p:nvPr/>
        </p:nvPicPr>
        <p:blipFill>
          <a:blip r:embed="rId1"/>
          <a:srcRect l="0" t="-52336" r="0" b="-52336"/>
          <a:stretch/>
        </p:blipFill>
        <p:spPr>
          <a:xfrm>
            <a:off x="5094360" y="1536840"/>
            <a:ext cx="3657600" cy="4589280"/>
          </a:xfrm>
          <a:prstGeom prst="rect">
            <a:avLst/>
          </a:prstGeom>
          <a:ln w="0">
            <a:noFill/>
          </a:ln>
        </p:spPr>
      </p:pic>
      <p:cxnSp>
        <p:nvCxnSpPr>
          <p:cNvPr id="100" name="Straight Arrow Connector 6"/>
          <p:cNvCxnSpPr/>
          <p:nvPr/>
        </p:nvCxnSpPr>
        <p:spPr>
          <a:xfrm>
            <a:off x="5754240" y="2368080"/>
            <a:ext cx="435960" cy="5151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1" name="Straight Arrow Connector 8"/>
          <p:cNvCxnSpPr/>
          <p:nvPr/>
        </p:nvCxnSpPr>
        <p:spPr>
          <a:xfrm flipV="1">
            <a:off x="6681600" y="4668120"/>
            <a:ext cx="697320" cy="594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2" name="TextBox 9"/>
          <p:cNvSpPr/>
          <p:nvPr/>
        </p:nvSpPr>
        <p:spPr>
          <a:xfrm>
            <a:off x="4873680" y="200196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View Objec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5754600" y="5262480"/>
            <a:ext cx="18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ViewController.h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63EB-F2B2-4833-9182-07D6A7175D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Link the label…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536840"/>
            <a:ext cx="51004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Single click on your Hello World label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While holding down the Control key, left click-drag to the ViewController.h file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You need to drag between the @interface and @end in the code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This will make a new property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For the name, call it helloLabel so we can easily recognize what it is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This step will allow us to make changes to the UILabel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06" name="Content Placeholder 4" descr="Screen Shot 2012-02-22 at 11.49.27 PM.png"/>
          <p:cNvPicPr/>
          <p:nvPr/>
        </p:nvPicPr>
        <p:blipFill>
          <a:blip r:embed="rId1"/>
          <a:srcRect l="0" t="-86561" r="0" b="-86561"/>
          <a:stretch/>
        </p:blipFill>
        <p:spPr>
          <a:xfrm>
            <a:off x="5303880" y="1536840"/>
            <a:ext cx="3657600" cy="45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3A99-BB21-44E6-914E-E76A0A9A2A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40788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@interface and @end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860120"/>
            <a:ext cx="829476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Remember that Objective-C is an extensive to the C language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The @ symbol denotes an Objective-C keyword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@interface is the start of a class.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@interface Classname: Superclass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Anything between the declaration and end is part of the class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9837F-102D-4B89-AE22-656153C3D9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00ea"/>
                </a:solidFill>
                <a:latin typeface="Verdana"/>
              </a:rPr>
              <a:t>@property (weak, nonatomic) IBOutlet UILabel *helloLabel;</a:t>
            </a:r>
            <a:endParaRPr b="0" lang="en-US" sz="36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71360"/>
            <a:ext cx="84074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2d00ea"/>
                </a:solidFill>
                <a:latin typeface="Verdana"/>
              </a:rPr>
              <a:t>property</a:t>
            </a: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 is an attribute of the class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Getters and Setters are automatically created for you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00ea"/>
                </a:solidFill>
                <a:latin typeface="Verdana"/>
              </a:rPr>
              <a:t>Weak </a:t>
            </a: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is a memory management term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00ea"/>
                </a:solidFill>
                <a:latin typeface="Verdana"/>
              </a:rPr>
              <a:t>Nonatomic</a:t>
            </a: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 has to do with adding mutexes around your getters and setters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00ea"/>
                </a:solidFill>
                <a:latin typeface="Verdana"/>
              </a:rPr>
              <a:t>IBOutlet</a:t>
            </a: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 stands for Interface Builder Outlet.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Interface Builder still exists in iOS5 but we are using the new </a:t>
            </a:r>
            <a:r>
              <a:rPr b="0" lang="en-US" sz="2400" spc="-1" strike="noStrike">
                <a:solidFill>
                  <a:srgbClr val="2d00ea"/>
                </a:solidFill>
                <a:latin typeface="Verdana"/>
              </a:rPr>
              <a:t>Storyboard</a:t>
            </a: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 feature instead.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1580-E15B-46CB-93EF-768118463E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00ea"/>
                </a:solidFill>
                <a:latin typeface="Verdana"/>
              </a:rPr>
              <a:t>@synthesize helloLabel</a:t>
            </a:r>
            <a:endParaRPr b="0" lang="en-US" sz="48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36840"/>
            <a:ext cx="798192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d00ea"/>
                </a:solidFill>
                <a:latin typeface="Verdana"/>
              </a:rPr>
              <a:t>Synthesize</a:t>
            </a: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 – this creates the accessor/mutators (getters/setters) for you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You can write your own if you want, but in general, there is no reason to do this.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8C60-1CAE-4D0A-9892-CF097A9D34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Link the rest of the buttons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17440" y="1536840"/>
            <a:ext cx="480384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90000"/>
              </a:lnSpc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Link helloButton to ViewController.h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39480" indent="-226080">
              <a:lnSpc>
                <a:spcPct val="90000"/>
              </a:lnSpc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Link goodbyeButton to ViewController.h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39480" indent="-226080">
              <a:lnSpc>
                <a:spcPct val="90000"/>
              </a:lnSpc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When done, you will have two properties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39480" indent="-226080">
              <a:lnSpc>
                <a:spcPct val="90000"/>
              </a:lnSpc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Now, switch the Assistant window to the ViewController.m file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15" name="Content Placeholder 4" descr="Screen Shot 2012-02-23 at 12.14.19 AM.png"/>
          <p:cNvPicPr/>
          <p:nvPr/>
        </p:nvPicPr>
        <p:blipFill>
          <a:blip r:embed="rId1"/>
          <a:srcRect l="0" t="-56192" r="0" b="-56192"/>
          <a:stretch/>
        </p:blipFill>
        <p:spPr>
          <a:xfrm>
            <a:off x="5205240" y="1536840"/>
            <a:ext cx="3657600" cy="4589280"/>
          </a:xfrm>
          <a:prstGeom prst="rect">
            <a:avLst/>
          </a:prstGeom>
          <a:ln w="0">
            <a:noFill/>
          </a:ln>
        </p:spPr>
      </p:pic>
      <p:cxnSp>
        <p:nvCxnSpPr>
          <p:cNvPr id="116" name="Straight Arrow Connector 6"/>
          <p:cNvCxnSpPr/>
          <p:nvPr/>
        </p:nvCxnSpPr>
        <p:spPr>
          <a:xfrm>
            <a:off x="5204880" y="2265120"/>
            <a:ext cx="824760" cy="802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E804-3B59-4A8F-9A8D-A603C04F26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TouchUpInside Actions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47320" y="1536480"/>
            <a:ext cx="48466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TouchUpInside events occur if you touch a button and lift off while inside the button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11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This corresponds to a user tapping a button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11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Right-Click on the Hello button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11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On the far right, locate Touch Up Inside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11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Left click-drag this over to your ViewController.m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11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Notice it creates some code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11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Do the same for the goodbye button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19" name="Content Placeholder 4" descr="Screen Shot 2012-02-23 at 12.17.03 AM.png"/>
          <p:cNvPicPr/>
          <p:nvPr/>
        </p:nvPicPr>
        <p:blipFill>
          <a:blip r:embed="rId1"/>
          <a:srcRect l="0" t="-67014" r="0" b="-67014"/>
          <a:stretch/>
        </p:blipFill>
        <p:spPr>
          <a:xfrm>
            <a:off x="5094360" y="1536840"/>
            <a:ext cx="3657600" cy="4589280"/>
          </a:xfrm>
          <a:prstGeom prst="rect">
            <a:avLst/>
          </a:prstGeom>
          <a:ln w="0">
            <a:noFill/>
          </a:ln>
        </p:spPr>
      </p:pic>
      <p:cxnSp>
        <p:nvCxnSpPr>
          <p:cNvPr id="120" name="Straight Arrow Connector 6"/>
          <p:cNvCxnSpPr/>
          <p:nvPr/>
        </p:nvCxnSpPr>
        <p:spPr>
          <a:xfrm flipH="1">
            <a:off x="5594400" y="4348080"/>
            <a:ext cx="2230920" cy="286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8C61-6630-4D57-8AC7-F22C705582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599840"/>
            <a:ext cx="829476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iOS is the operating system that runs iPhones, iPod Touches, iPads, and Apple TVs.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The language used to develop software for iOS is Objective-C. (very similar to C)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This workshop will teach you how to get started but will not have time to teach you everything.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This workshop is good preparation for a real full iPhone/iPad, iOS Development class!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2848-236B-4EB9-912F-349A6F9062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9480"/>
            <a:ext cx="829476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IBAction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7080" y="1164960"/>
            <a:ext cx="8534520" cy="26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You created two </a:t>
            </a:r>
            <a:r>
              <a:rPr b="0" lang="en-US" sz="2900" spc="-1" strike="noStrike">
                <a:solidFill>
                  <a:srgbClr val="2d00ea"/>
                </a:solidFill>
                <a:latin typeface="Verdana"/>
              </a:rPr>
              <a:t>IBActions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Actions signify something that happens when you do something for example, push a button.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When you push a button, it fires the action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These are currently empty methods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18920" y="4036680"/>
            <a:ext cx="7337160" cy="19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00ea"/>
                </a:solidFill>
                <a:latin typeface="Verdana"/>
              </a:rPr>
              <a:t>- (IBAction)helloPushed:(id)sender {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1896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00ea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18960" indent="-212400">
              <a:lnSpc>
                <a:spcPct val="8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1896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00ea"/>
                </a:solidFill>
                <a:latin typeface="Verdana"/>
              </a:rPr>
              <a:t>- (IBAction)goodbyePushed:(id)sender {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1896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00ea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BB9B-BB37-45D3-9512-5F30989F65B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69480"/>
            <a:ext cx="829476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Change the UILabel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47680" y="1360080"/>
            <a:ext cx="8686800" cy="52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00ea"/>
                </a:solidFill>
                <a:latin typeface="Verdana"/>
              </a:rPr>
              <a:t>- (IBAction)helloPushed:(id)sender {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00ea"/>
                </a:solidFill>
                <a:latin typeface="Verdana"/>
              </a:rPr>
              <a:t>   </a:t>
            </a:r>
            <a:r>
              <a:rPr b="1" lang="en-US" sz="2200" spc="-1" strike="noStrike">
                <a:solidFill>
                  <a:srgbClr val="2d00ea"/>
                </a:solidFill>
                <a:latin typeface="Verdana"/>
              </a:rPr>
              <a:t>self.helloLabel.text=@"Hello Pushed";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00ea"/>
                </a:solidFill>
                <a:latin typeface="Verdana"/>
              </a:rPr>
              <a:t>}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00ea"/>
                </a:solidFill>
                <a:latin typeface="Verdana"/>
              </a:rPr>
              <a:t>- (IBAction)goodbyePushed:(id)sender {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00ea"/>
                </a:solidFill>
                <a:latin typeface="Verdana"/>
              </a:rPr>
              <a:t>   </a:t>
            </a:r>
            <a:r>
              <a:rPr b="1" lang="en-US" sz="2200" spc="-1" strike="noStrike">
                <a:solidFill>
                  <a:srgbClr val="2d00ea"/>
                </a:solidFill>
                <a:latin typeface="Verdana"/>
              </a:rPr>
              <a:t>self.helloLabel.text=@"Goodbye Pushed";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00ea"/>
                </a:solidFill>
                <a:latin typeface="Verdana"/>
              </a:rPr>
              <a:t>}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00ea"/>
                </a:solidFill>
                <a:latin typeface="Verdana"/>
              </a:rPr>
              <a:t>Self</a:t>
            </a: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 refers to the ViewController class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We defined the property </a:t>
            </a:r>
            <a:r>
              <a:rPr b="0" lang="en-US" sz="2200" spc="-1" strike="noStrike">
                <a:solidFill>
                  <a:srgbClr val="2d00ea"/>
                </a:solidFill>
                <a:latin typeface="Verdana"/>
              </a:rPr>
              <a:t>helloLabel</a:t>
            </a: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 earlier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00ea"/>
                </a:solidFill>
                <a:latin typeface="Verdana"/>
              </a:rPr>
              <a:t>Text</a:t>
            </a: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 is a property of UILabel’s that we can set.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The @”Some text” is an </a:t>
            </a:r>
            <a:r>
              <a:rPr b="0" lang="en-US" sz="2200" spc="-1" strike="noStrike">
                <a:solidFill>
                  <a:srgbClr val="2d00ea"/>
                </a:solidFill>
                <a:latin typeface="Verdana"/>
              </a:rPr>
              <a:t>NSString</a:t>
            </a: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 object that UILabels can display.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Run your program and push the buttons. You should see the UILabel change when you press the buttons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3047-56DD-45C3-BD7D-6E731235424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Tab Controller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599840"/>
            <a:ext cx="829476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If you’ve ever used an iOS device, you have come across apps that use the </a:t>
            </a:r>
            <a:r>
              <a:rPr b="0" lang="en-US" sz="2400" spc="-1" strike="noStrike">
                <a:solidFill>
                  <a:srgbClr val="2d00ea"/>
                </a:solidFill>
                <a:latin typeface="Verdana"/>
              </a:rPr>
              <a:t>tab controller</a:t>
            </a: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Several of the built in apps (such as the phone app) use this controller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For the next exercise, we are going to create a simple tab controller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8D1E-3679-4721-B68A-DD8B6EA9690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Create a new project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31480" y="1536840"/>
            <a:ext cx="465444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Close any existing projects you have open (to make things easier!)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Select File-&gt;New-&gt;Project from the application menu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30" name="Content Placeholder 6" descr="Screen Shot 2012-02-23 at 10.40.44 PM.png"/>
          <p:cNvPicPr/>
          <p:nvPr/>
        </p:nvPicPr>
        <p:blipFill>
          <a:blip r:embed="rId1"/>
          <a:srcRect l="0" t="-152246" r="0" b="-152246"/>
          <a:stretch/>
        </p:blipFill>
        <p:spPr>
          <a:xfrm>
            <a:off x="4886280" y="1536840"/>
            <a:ext cx="3657600" cy="45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D7F7-266B-4A95-91EC-E65B6D4C771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Select Tab Template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Select the “Tabbed Application” Template for your project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33" name="Content Placeholder 4" descr="Screen Shot 2012-02-23 at 10.41.05 PM.png"/>
          <p:cNvPicPr/>
          <p:nvPr/>
        </p:nvPicPr>
        <p:blipFill>
          <a:blip r:embed="rId1"/>
          <a:srcRect l="0" t="-43863" r="0" b="-43863"/>
          <a:stretch/>
        </p:blipFill>
        <p:spPr>
          <a:xfrm>
            <a:off x="4114800" y="1536840"/>
            <a:ext cx="3657600" cy="45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62CB6-1318-4360-B971-4FC75C6DA44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Set Options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17080" y="1536840"/>
            <a:ext cx="4638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For product name, call it tabDemo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Whatever you used for Company Identifier should be set – if not, edu.itu is ok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Leave Class Prefix blank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For Device family, choose iPhone (to keep it simple)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Enable Storyboards and Arc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Do not select Unit Tests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36" name="Content Placeholder 4" descr="Screen Shot 2012-02-23 at 10.41.43 PM.png"/>
          <p:cNvPicPr/>
          <p:nvPr/>
        </p:nvPicPr>
        <p:blipFill>
          <a:blip r:embed="rId1"/>
          <a:srcRect l="23197" t="0" r="23197" b="0"/>
          <a:stretch/>
        </p:blipFill>
        <p:spPr>
          <a:xfrm>
            <a:off x="4856040" y="1536840"/>
            <a:ext cx="3657600" cy="45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36885-0AFE-4DD8-8AF6-7DBD122E851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Look at the Storyboard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95120" y="1596600"/>
            <a:ext cx="491184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Click on MainStoryboard.Storyboard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Notice how the Tab Bar Controller is shown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It also shows the child views associated with the tab bar buttons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This lets the developer see the views and path to them at a quick glance.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Go ahead and run the project, observe what happens when you tap the tab items.  It switches between the views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39" name="Content Placeholder 4" descr="Screen Shot 2012-02-23 at 10.48.12 PM.png"/>
          <p:cNvPicPr/>
          <p:nvPr/>
        </p:nvPicPr>
        <p:blipFill>
          <a:blip r:embed="rId1"/>
          <a:srcRect l="0" t="-21359" r="0" b="-21359"/>
          <a:stretch/>
        </p:blipFill>
        <p:spPr>
          <a:xfrm>
            <a:off x="5106960" y="1327320"/>
            <a:ext cx="3657600" cy="45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2432-6EB3-4490-8C68-9150D3761BE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Let’s add a new class:  ThirdViewController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731960"/>
            <a:ext cx="3657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On the left hand side, right-click on the tabDemo folder and select New File 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42" name="Content Placeholder 4" descr="Screen Shot 2012-02-23 at 11.02.15 PM.png"/>
          <p:cNvPicPr/>
          <p:nvPr/>
        </p:nvPicPr>
        <p:blipFill>
          <a:blip r:embed="rId1"/>
          <a:srcRect l="0" t="451" r="0" b="451"/>
          <a:stretch/>
        </p:blipFill>
        <p:spPr>
          <a:xfrm>
            <a:off x="4411800" y="1731960"/>
            <a:ext cx="3657600" cy="4589640"/>
          </a:xfrm>
          <a:prstGeom prst="rect">
            <a:avLst/>
          </a:prstGeom>
          <a:ln w="0">
            <a:noFill/>
          </a:ln>
        </p:spPr>
      </p:pic>
      <p:cxnSp>
        <p:nvCxnSpPr>
          <p:cNvPr id="143" name="Straight Arrow Connector 6"/>
          <p:cNvCxnSpPr/>
          <p:nvPr/>
        </p:nvCxnSpPr>
        <p:spPr>
          <a:xfrm flipH="1">
            <a:off x="4895280" y="1234800"/>
            <a:ext cx="1934280" cy="951480"/>
          </a:xfrm>
          <a:prstGeom prst="straightConnector1">
            <a:avLst/>
          </a:prstGeom>
          <a:ln w="25560">
            <a:solidFill>
              <a:srgbClr val="ff6600"/>
            </a:solidFill>
            <a:miter/>
            <a:tailEnd len="med" type="arrow" w="med"/>
          </a:ln>
        </p:spPr>
      </p:cxnSp>
      <p:cxnSp>
        <p:nvCxnSpPr>
          <p:cNvPr id="144" name="Straight Arrow Connector 8"/>
          <p:cNvCxnSpPr/>
          <p:nvPr/>
        </p:nvCxnSpPr>
        <p:spPr>
          <a:xfrm>
            <a:off x="4576680" y="3021120"/>
            <a:ext cx="767520" cy="576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0DB7-E08B-4DCD-8C93-2F8C62636BE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Pick the type of file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We are adding a new ViewController – so select </a:t>
            </a:r>
            <a:r>
              <a:rPr b="1" lang="en-US" sz="3100" spc="-1" strike="noStrike">
                <a:solidFill>
                  <a:srgbClr val="2d00ea"/>
                </a:solidFill>
                <a:latin typeface="Verdana"/>
              </a:rPr>
              <a:t>Objective-C class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47" name="Content Placeholder 4" descr="Screen Shot 2012-02-23 at 11.02.36 PM.png"/>
          <p:cNvPicPr/>
          <p:nvPr/>
        </p:nvPicPr>
        <p:blipFill>
          <a:blip r:embed="rId1"/>
          <a:srcRect l="23290" t="0" r="23290" b="0"/>
          <a:stretch/>
        </p:blipFill>
        <p:spPr>
          <a:xfrm>
            <a:off x="4419720" y="1536840"/>
            <a:ext cx="3657600" cy="45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E694-C233-47C2-8BBD-59AC777097F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Pick the options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47320" y="1536840"/>
            <a:ext cx="467676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For Class, type in </a:t>
            </a:r>
            <a:r>
              <a:rPr b="1" lang="en-US" sz="2200" spc="-1" strike="noStrike">
                <a:solidFill>
                  <a:srgbClr val="2d00ea"/>
                </a:solidFill>
                <a:latin typeface="Verdana"/>
              </a:rPr>
              <a:t>Third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In the Sublass combo box, select </a:t>
            </a:r>
            <a:r>
              <a:rPr b="1" lang="en-US" sz="2200" spc="-1" strike="noStrike">
                <a:solidFill>
                  <a:srgbClr val="2d00ea"/>
                </a:solidFill>
                <a:latin typeface="Verdana"/>
              </a:rPr>
              <a:t>UIViewController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The IDE will change your class name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It is good naming convention to have the class be description – so in this case, ThirdViewController lets any developer know this is a ViewController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Verdana"/>
              </a:rPr>
              <a:t>Leave Targeted for iPad and XIB unchecked</a:t>
            </a:r>
            <a:endParaRPr b="0" lang="en-US" sz="22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50" name="Content Placeholder 4" descr="Screen Shot 2012-02-23 at 11.03.17 PM.png"/>
          <p:cNvPicPr/>
          <p:nvPr/>
        </p:nvPicPr>
        <p:blipFill>
          <a:blip r:embed="rId1"/>
          <a:srcRect l="22955" t="0" r="22955" b="0"/>
          <a:stretch/>
        </p:blipFill>
        <p:spPr>
          <a:xfrm>
            <a:off x="5094360" y="1536840"/>
            <a:ext cx="3657600" cy="45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F0E2-C668-438C-82F9-7D78CDF299A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82947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What is iOS?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43160"/>
            <a:ext cx="85485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iOS is an OS. It</a:t>
            </a:r>
            <a:r>
              <a:rPr b="0" lang="fr-FR" sz="2400" spc="-1" strike="noStrike">
                <a:solidFill>
                  <a:srgbClr val="2f2b2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s a subset of Mac OS X.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The iOS SDK is the software development kit that allows application programs to utilize classes and frameworks provided by the SDK. This workshop will focus on iOS SDK 5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iOS is multitasking and runs on different devices (iPhones, iPod Touches, iPads, and Apple TVs).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Apple provides an IDE called Xcode.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Xcode is the IDE used by iOS (and OS X) developers. </a:t>
            </a:r>
            <a:r>
              <a:rPr b="0" lang="en-US" sz="2400" spc="-1" strike="noStrike">
                <a:solidFill>
                  <a:srgbClr val="d25814"/>
                </a:solidFill>
                <a:latin typeface="Verdana"/>
              </a:rPr>
              <a:t>It does NOT run on MS Windows</a:t>
            </a: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Xcode provides an interface to the compiler, editor, debugger, and code profiling tools.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CFA9-B432-4045-9E6B-49AD9D441B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Create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824120"/>
            <a:ext cx="365760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Take the default options, click the Create button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53" name="Content Placeholder 4" descr="Screen Shot 2012-02-23 at 11.03.34 PM.png"/>
          <p:cNvPicPr/>
          <p:nvPr/>
        </p:nvPicPr>
        <p:blipFill>
          <a:blip r:embed="rId1"/>
          <a:srcRect l="0" t="-10486" r="0" b="-10486"/>
          <a:stretch/>
        </p:blipFill>
        <p:spPr>
          <a:xfrm>
            <a:off x="4419720" y="1353960"/>
            <a:ext cx="3657600" cy="458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27C3-96A5-4A51-9878-ECDA2545C53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We now have a .h and .m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1352520"/>
            <a:ext cx="509436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Notice that you now have two files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ThirdViewController.h and ThirdViewController.m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If you look at the files, they are basically “skeleton” classes ready for the developer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56" name="Content Placeholder 4" descr="Screen Shot 2012-02-23 at 11.03.50 PM.png"/>
          <p:cNvPicPr/>
          <p:nvPr/>
        </p:nvPicPr>
        <p:blipFill>
          <a:blip r:embed="rId1"/>
          <a:srcRect l="418" t="0" r="418" b="0"/>
          <a:stretch/>
        </p:blipFill>
        <p:spPr>
          <a:xfrm>
            <a:off x="5094360" y="1536840"/>
            <a:ext cx="3657600" cy="45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E726-4F3C-4752-BEA7-D822E78D8D5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Add another View Controller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Add a new View Controller to the Storyboard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After you add it, it will not be linked to any view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59" name="Content Placeholder 6" descr="Screen Shot 2012-02-23 at 10.55.35 PM.png"/>
          <p:cNvPicPr/>
          <p:nvPr/>
        </p:nvPicPr>
        <p:blipFill>
          <a:blip r:embed="rId1"/>
          <a:srcRect l="0" t="-24912" r="0" b="-24912"/>
          <a:stretch/>
        </p:blipFill>
        <p:spPr>
          <a:xfrm>
            <a:off x="4419720" y="1353960"/>
            <a:ext cx="3657600" cy="458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32C2-D0B0-4395-A4B0-FCD6636B144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Our new view, all alone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60280" y="1739520"/>
            <a:ext cx="52135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Notice that Storyboard does not have any arrows pointing to it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The developer will have to make the association as this view could be a sub view of any of the views shown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62" name="Content Placeholder 6" descr="Screen Shot 2012-02-23 at 11.18.44 PM.png"/>
          <p:cNvPicPr/>
          <p:nvPr/>
        </p:nvPicPr>
        <p:blipFill>
          <a:blip r:embed="rId1"/>
          <a:srcRect l="-14911" t="0" r="-14911" b="0"/>
          <a:stretch/>
        </p:blipFill>
        <p:spPr>
          <a:xfrm>
            <a:off x="5094360" y="1536840"/>
            <a:ext cx="3657600" cy="45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31F8-F4A1-4C76-B291-F317203E558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Link this ViewController to the Tab Controller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35080" y="1536840"/>
            <a:ext cx="50464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Hold down the Control key, left-click drag from the Tab Controller to the new view we just added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This tells Storyboard that this view is going to be accessed from the tab controller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65" name="Content Placeholder 4" descr="Screen Shot 2012-02-23 at 11.20.14 PM.png"/>
          <p:cNvPicPr/>
          <p:nvPr/>
        </p:nvPicPr>
        <p:blipFill>
          <a:blip r:embed="rId1"/>
          <a:srcRect l="-6120" t="0" r="-6120" b="0"/>
          <a:stretch/>
        </p:blipFill>
        <p:spPr>
          <a:xfrm>
            <a:off x="5281560" y="1536840"/>
            <a:ext cx="3657600" cy="4589280"/>
          </a:xfrm>
          <a:prstGeom prst="rect">
            <a:avLst/>
          </a:prstGeom>
          <a:ln w="0">
            <a:noFill/>
          </a:ln>
        </p:spPr>
      </p:pic>
      <p:cxnSp>
        <p:nvCxnSpPr>
          <p:cNvPr id="166" name="Straight Arrow Connector 6"/>
          <p:cNvCxnSpPr/>
          <p:nvPr/>
        </p:nvCxnSpPr>
        <p:spPr>
          <a:xfrm>
            <a:off x="5594400" y="2700360"/>
            <a:ext cx="1248480" cy="20484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0468-F561-4467-A2D0-32680A800C2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Select Relationship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pic>
        <p:nvPicPr>
          <p:cNvPr id="168" name="Content Placeholder 4" descr="Screen Shot 2012-02-23 at 11.22.31 PM.png"/>
          <p:cNvPicPr/>
          <p:nvPr/>
        </p:nvPicPr>
        <p:blipFill>
          <a:blip r:embed="rId1"/>
          <a:srcRect l="0" t="-17785" r="0" b="-17785"/>
          <a:stretch/>
        </p:blipFill>
        <p:spPr>
          <a:xfrm>
            <a:off x="457200" y="1536840"/>
            <a:ext cx="3657600" cy="4589280"/>
          </a:xfrm>
          <a:prstGeom prst="rect">
            <a:avLst/>
          </a:prstGeom>
          <a:ln w="0">
            <a:noFill/>
          </a:ln>
        </p:spPr>
      </p:pic>
      <p:pic>
        <p:nvPicPr>
          <p:cNvPr id="169" name="Content Placeholder 5" descr="Screen Shot 2012-02-23 at 11.22.49 PM.png"/>
          <p:cNvPicPr/>
          <p:nvPr/>
        </p:nvPicPr>
        <p:blipFill>
          <a:blip r:embed="rId2"/>
          <a:srcRect l="0" t="5905" r="0" b="5905"/>
          <a:stretch/>
        </p:blipFill>
        <p:spPr>
          <a:xfrm>
            <a:off x="4419720" y="1536840"/>
            <a:ext cx="3657600" cy="4589280"/>
          </a:xfrm>
          <a:prstGeom prst="rect">
            <a:avLst/>
          </a:prstGeom>
          <a:ln w="0">
            <a:noFill/>
          </a:ln>
        </p:spPr>
      </p:pic>
      <p:cxnSp>
        <p:nvCxnSpPr>
          <p:cNvPr id="170" name="Straight Arrow Connector 7"/>
          <p:cNvCxnSpPr/>
          <p:nvPr/>
        </p:nvCxnSpPr>
        <p:spPr>
          <a:xfrm flipH="1">
            <a:off x="3031560" y="2540160"/>
            <a:ext cx="595800" cy="457920"/>
          </a:xfrm>
          <a:prstGeom prst="straightConnector1">
            <a:avLst/>
          </a:prstGeom>
          <a:ln w="25560">
            <a:solidFill>
              <a:srgbClr val="a9a57c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3619-6AAB-40C7-BF3F-8113BAB7145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Label this before we forget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7320" y="1731600"/>
            <a:ext cx="493704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Click on the Text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Change this to say Third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We do not have any graphics – if we did, we would want to go ahead and add a graphic for this.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Note:  you will need graphics for standard iPhones, retina, and iPads.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73" name="Content Placeholder 4" descr="Screen Shot 2012-02-23 at 10.57.42 PM.png"/>
          <p:cNvPicPr/>
          <p:nvPr/>
        </p:nvPicPr>
        <p:blipFill>
          <a:blip r:embed="rId1"/>
          <a:srcRect l="0" t="4288" r="0" b="4288"/>
          <a:stretch/>
        </p:blipFill>
        <p:spPr>
          <a:xfrm>
            <a:off x="5094360" y="1469880"/>
            <a:ext cx="3657600" cy="4589640"/>
          </a:xfrm>
          <a:prstGeom prst="rect">
            <a:avLst/>
          </a:prstGeom>
          <a:ln w="0">
            <a:noFill/>
          </a:ln>
        </p:spPr>
      </p:pic>
      <p:cxnSp>
        <p:nvCxnSpPr>
          <p:cNvPr id="174" name="Straight Arrow Connector 6"/>
          <p:cNvCxnSpPr/>
          <p:nvPr/>
        </p:nvCxnSpPr>
        <p:spPr>
          <a:xfrm flipH="1">
            <a:off x="6314400" y="4554360"/>
            <a:ext cx="802440" cy="766080"/>
          </a:xfrm>
          <a:prstGeom prst="straightConnector1">
            <a:avLst/>
          </a:prstGeom>
          <a:ln w="25560">
            <a:solidFill>
              <a:srgbClr val="a9a57c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58F6-EF2C-4E05-94F6-8FE8FA9F777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Lets be more specific about the class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1536480"/>
            <a:ext cx="51735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Left Click on your new view in Storyboard – icon on right bottom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Click the Identify Inspector (upper right)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Notice how the class is currently UIViewController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We need to make this to be associated with our ThirdViewController (which is a subclass of UIViewController)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77" name="Content Placeholder 4" descr="Screen Shot 2012-02-23 at 11.27.06 PM.png"/>
          <p:cNvPicPr/>
          <p:nvPr/>
        </p:nvPicPr>
        <p:blipFill>
          <a:blip r:embed="rId1"/>
          <a:srcRect l="0" t="-32891" r="0" b="-32891"/>
          <a:stretch/>
        </p:blipFill>
        <p:spPr>
          <a:xfrm>
            <a:off x="5094360" y="1536840"/>
            <a:ext cx="3657600" cy="4589280"/>
          </a:xfrm>
          <a:prstGeom prst="rect">
            <a:avLst/>
          </a:prstGeom>
          <a:ln w="0">
            <a:noFill/>
          </a:ln>
        </p:spPr>
      </p:pic>
      <p:cxnSp>
        <p:nvCxnSpPr>
          <p:cNvPr id="178" name="Straight Arrow Connector 6"/>
          <p:cNvCxnSpPr/>
          <p:nvPr/>
        </p:nvCxnSpPr>
        <p:spPr>
          <a:xfrm flipH="1">
            <a:off x="6246000" y="2025720"/>
            <a:ext cx="343800" cy="5608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D911A-650A-40D9-B422-866AF4F9F60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Select ThirdViewController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7320" y="1536840"/>
            <a:ext cx="493704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9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From the combo box, scroll until you find </a:t>
            </a:r>
            <a:r>
              <a:rPr b="1" lang="en-US" sz="2900" spc="-1" strike="noStrike">
                <a:solidFill>
                  <a:srgbClr val="2f2b20"/>
                </a:solidFill>
                <a:latin typeface="Verdana"/>
              </a:rPr>
              <a:t>ThirdViewController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35880" indent="-223920">
              <a:lnSpc>
                <a:spcPct val="9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This will let us do any custom actions we might need to do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35880" indent="-223920">
              <a:lnSpc>
                <a:spcPct val="9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Remember:  ThirdViewController has all of the methods and properties of a UIViewController!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81" name="Content Placeholder 4" descr="Screen Shot 2012-02-23 at 11.30.01 PM.png"/>
          <p:cNvPicPr/>
          <p:nvPr/>
        </p:nvPicPr>
        <p:blipFill>
          <a:blip r:embed="rId1"/>
          <a:srcRect l="0" t="-37899" r="0" b="-37899"/>
          <a:stretch/>
        </p:blipFill>
        <p:spPr>
          <a:xfrm>
            <a:off x="5094360" y="1536840"/>
            <a:ext cx="3657600" cy="4589280"/>
          </a:xfrm>
          <a:prstGeom prst="rect">
            <a:avLst/>
          </a:prstGeom>
          <a:ln w="0">
            <a:noFill/>
          </a:ln>
        </p:spPr>
      </p:pic>
      <p:cxnSp>
        <p:nvCxnSpPr>
          <p:cNvPr id="182" name="Straight Arrow Connector 6"/>
          <p:cNvCxnSpPr/>
          <p:nvPr/>
        </p:nvCxnSpPr>
        <p:spPr>
          <a:xfrm flipH="1">
            <a:off x="7298640" y="3020760"/>
            <a:ext cx="1042200" cy="11674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48EE-2CA1-46EE-8D92-08A204DF03E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Let’s Replace the First View</a:t>
            </a: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2120" y="1341000"/>
            <a:ext cx="487224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We are going to replace the FirstViewController with a TableViewController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Click on First View, hit the Delete button to remove it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85" name="Content Placeholder 4" descr="Screen Shot 2012-02-24 at 12.00.48 AM.png"/>
          <p:cNvPicPr/>
          <p:nvPr/>
        </p:nvPicPr>
        <p:blipFill>
          <a:blip r:embed="rId1"/>
          <a:srcRect l="0" t="-46564" r="0" b="-46564"/>
          <a:stretch/>
        </p:blipFill>
        <p:spPr>
          <a:xfrm>
            <a:off x="5094360" y="1341360"/>
            <a:ext cx="3657600" cy="458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12A0-2BE5-4D7C-8D80-5C721C08906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Device Features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1480" y="1417320"/>
            <a:ext cx="852012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00ea"/>
                </a:solidFill>
                <a:latin typeface="Verdana"/>
              </a:rPr>
              <a:t>SQLite</a:t>
            </a: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 for structured data storage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00ea"/>
                </a:solidFill>
                <a:latin typeface="Verdana"/>
              </a:rPr>
              <a:t>Media support</a:t>
            </a: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 for common audio, video, and still image formats (MPEG4, H.264, MP3, AAC, AMR, JPG, PNG, GIF)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00ea"/>
                </a:solidFill>
                <a:latin typeface="Verdana"/>
              </a:rPr>
              <a:t>GSM Telephony</a:t>
            </a: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 (hardware dependent)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00ea"/>
                </a:solidFill>
                <a:latin typeface="Verdana"/>
              </a:rPr>
              <a:t>Bluetooth, EDGE, 3G, and WiFi</a:t>
            </a: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 (hardware dependent)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00ea"/>
                </a:solidFill>
                <a:latin typeface="Verdana"/>
              </a:rPr>
              <a:t>Camera, GPS, compass, and accelerometer</a:t>
            </a: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 (hardware dependent)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00ea"/>
                </a:solidFill>
                <a:latin typeface="Verdana"/>
              </a:rPr>
              <a:t>Rich development environment</a:t>
            </a: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 including a device simulator, tools for debugging, memory and performance profiling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0866-161B-45D8-9E75-71108B7AC0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Drag a Table View Controller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36840"/>
            <a:ext cx="445464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From the Object Library, drag over a Table View Controller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A good spot would be where you just deleted the other view controller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88" name="Content Placeholder 4" descr="Screen Shot 2012-02-24 at 12.02.57 AM.png"/>
          <p:cNvPicPr/>
          <p:nvPr/>
        </p:nvPicPr>
        <p:blipFill>
          <a:blip r:embed="rId1"/>
          <a:srcRect l="0" t="-23152" r="0" b="-23152"/>
          <a:stretch/>
        </p:blipFill>
        <p:spPr>
          <a:xfrm>
            <a:off x="5094360" y="1536840"/>
            <a:ext cx="3657600" cy="4589280"/>
          </a:xfrm>
          <a:prstGeom prst="rect">
            <a:avLst/>
          </a:prstGeom>
          <a:ln w="0">
            <a:noFill/>
          </a:ln>
        </p:spPr>
      </p:pic>
      <p:cxnSp>
        <p:nvCxnSpPr>
          <p:cNvPr id="189" name="Straight Arrow Connector 6"/>
          <p:cNvCxnSpPr/>
          <p:nvPr/>
        </p:nvCxnSpPr>
        <p:spPr>
          <a:xfrm flipH="1">
            <a:off x="7287840" y="3466800"/>
            <a:ext cx="961200" cy="7563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8376-B420-4562-9FD0-F76DAF0CFE0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Embed Navigation Controller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35080" y="1366920"/>
            <a:ext cx="48592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From the Xcode menu bar, select Editor-&gt;Embed In-&gt;Navigation Controller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Notice that another view controller is added to the Storyboard canvas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92" name="Content Placeholder 4" descr="Screen Shot 2012-02-24 at 12.05.04 AM.png"/>
          <p:cNvPicPr/>
          <p:nvPr/>
        </p:nvPicPr>
        <p:blipFill>
          <a:blip r:embed="rId1"/>
          <a:srcRect l="0" t="-106205" r="0" b="-106205"/>
          <a:stretch/>
        </p:blipFill>
        <p:spPr>
          <a:xfrm>
            <a:off x="5094360" y="1536840"/>
            <a:ext cx="3657600" cy="45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75F4-6C90-4DA8-9C57-7F8C19452BF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Check it out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2120" y="1536480"/>
            <a:ext cx="50594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This is what we did in the previous slide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Since the Navigation Controller is a container, there is a relationship between the Navigation controller and the table view controller. (Noted by the connecting arrow)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95" name="Content Placeholder 4" descr="Screen Shot 2012-02-24 at 12.05.18 AM.png"/>
          <p:cNvPicPr/>
          <p:nvPr/>
        </p:nvPicPr>
        <p:blipFill>
          <a:blip r:embed="rId1"/>
          <a:srcRect l="0" t="-52225" r="0" b="-52225"/>
          <a:stretch/>
        </p:blipFill>
        <p:spPr>
          <a:xfrm>
            <a:off x="5281560" y="1536840"/>
            <a:ext cx="3657600" cy="45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2CDB1-F239-4674-B367-D487D254E1C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Hook up the Scenes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35080" y="1536840"/>
            <a:ext cx="396216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Ctrl-drag from the Tab Bar controller to the Navigation controller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Select Relationship – View Controllers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198" name="Content Placeholder 4" descr="Screen Shot 2012-02-24 at 12.10.00 AM.png"/>
          <p:cNvPicPr/>
          <p:nvPr/>
        </p:nvPicPr>
        <p:blipFill>
          <a:blip r:embed="rId1"/>
          <a:srcRect l="0" t="-59905" r="0" b="-59905"/>
          <a:stretch/>
        </p:blipFill>
        <p:spPr>
          <a:xfrm>
            <a:off x="4419720" y="1536840"/>
            <a:ext cx="3657600" cy="45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BC5A-9150-48AA-ADA4-365D6435890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Look at Storyboard now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82520" y="1536840"/>
            <a:ext cx="491184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The relationship is defined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When we added this, it added an entry labeled “Item” as the last tab bar button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Drag this “Item” and make it the first entry in our tab bar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201" name="Content Placeholder 4" descr="Screen Shot 2012-02-24 at 12.10.09 AM.png"/>
          <p:cNvPicPr/>
          <p:nvPr/>
        </p:nvPicPr>
        <p:blipFill>
          <a:blip r:embed="rId1"/>
          <a:srcRect l="0" t="-28781" r="0" b="-28781"/>
          <a:stretch/>
        </p:blipFill>
        <p:spPr>
          <a:xfrm>
            <a:off x="5094360" y="1536840"/>
            <a:ext cx="3657600" cy="45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FE92-1B26-4117-94CC-C6EBF1EC147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983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Fix up the tab bar items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7440" y="1339560"/>
            <a:ext cx="45118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Drag item to the left most position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Also, let’s rename this back to First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Double-click on Item in the Navigation Controller scene, change text to First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204" name="Content Placeholder 4" descr="Screen Shot 2012-02-24 at 12.12.11 AM.png"/>
          <p:cNvPicPr/>
          <p:nvPr/>
        </p:nvPicPr>
        <p:blipFill>
          <a:blip r:embed="rId1"/>
          <a:srcRect l="20079" t="0" r="20079" b="0"/>
          <a:stretch/>
        </p:blipFill>
        <p:spPr>
          <a:xfrm>
            <a:off x="5094360" y="1536840"/>
            <a:ext cx="3657600" cy="2903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Screen Shot 2012-02-24 at 12.13.26 AM.png"/>
          <p:cNvPicPr/>
          <p:nvPr/>
        </p:nvPicPr>
        <p:blipFill>
          <a:blip r:embed="rId2"/>
          <a:stretch/>
        </p:blipFill>
        <p:spPr>
          <a:xfrm>
            <a:off x="4819680" y="4610160"/>
            <a:ext cx="4240080" cy="168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E5F7-3BBC-4F96-946B-33EA8D30B3A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69560"/>
            <a:ext cx="829476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Name the Navigation bar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36160" y="1328760"/>
            <a:ext cx="46926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In the Table View window, double-click on the Title bar.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Type in “Things” to give the Navigation bar a name.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In a “real” app, you would type something descriptive and meaningful to the user.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208" name="Content Placeholder 4" descr="Screen Shot 2012-03-02 at 8.45.54 PM.png"/>
          <p:cNvPicPr/>
          <p:nvPr/>
        </p:nvPicPr>
        <p:blipFill>
          <a:blip r:embed="rId1"/>
          <a:srcRect l="-6858" t="0" r="-6858" b="0"/>
          <a:stretch/>
        </p:blipFill>
        <p:spPr>
          <a:xfrm>
            <a:off x="4929120" y="1536840"/>
            <a:ext cx="3657600" cy="45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F5FE-537B-4E0A-B0ED-45C643A6BE4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947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The Navigation Bar has a title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22120" y="1165320"/>
            <a:ext cx="487224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You can now see the title has a name.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39480" indent="-22608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If you have noticed, we have been getting a warning from the compiler for our storyboard.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39480" indent="-22608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“</a:t>
            </a: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Prototype table cells must have reuse identifiers”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211" name="Content Placeholder 6" descr="Screen Shot 2012-03-02 at 9.31.57 PM.png"/>
          <p:cNvPicPr/>
          <p:nvPr/>
        </p:nvPicPr>
        <p:blipFill>
          <a:blip r:embed="rId1"/>
          <a:srcRect l="-8540" t="0" r="-8540" b="0"/>
          <a:stretch/>
        </p:blipFill>
        <p:spPr>
          <a:xfrm>
            <a:off x="5094360" y="1536840"/>
            <a:ext cx="3657600" cy="45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9696-48BD-4FA1-A7C1-06F511A3558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Let’s get rid of the warning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1599840"/>
            <a:ext cx="829476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2f2b20"/>
                </a:solidFill>
                <a:latin typeface="Verdana"/>
              </a:rPr>
              <a:t>Warnings are typically not something you want in your program.</a:t>
            </a:r>
            <a:endParaRPr b="0" lang="en-US" sz="3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99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2f2b20"/>
                </a:solidFill>
                <a:latin typeface="Verdana"/>
              </a:rPr>
              <a:t>We are getting this warning because we have not configured the cells yet – so the compiler does not know what they are.</a:t>
            </a:r>
            <a:endParaRPr b="0" lang="en-US" sz="32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04EC-36B4-49FB-89D7-2A9465C12A9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Table View Controller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0964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Click on the blank prototype cell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Next, click on the attributes inspector and set Style to Subtitle.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216" name="Content Placeholder 10" descr="Screen Shot 2012-03-02 at 9.31.57 PM.png"/>
          <p:cNvPicPr/>
          <p:nvPr/>
        </p:nvPicPr>
        <p:blipFill>
          <a:blip r:embed="rId1"/>
          <a:srcRect l="-8540" t="0" r="-8540" b="0"/>
          <a:stretch/>
        </p:blipFill>
        <p:spPr>
          <a:xfrm>
            <a:off x="4641840" y="1536840"/>
            <a:ext cx="3657600" cy="4589280"/>
          </a:xfrm>
          <a:prstGeom prst="rect">
            <a:avLst/>
          </a:prstGeom>
          <a:ln w="0">
            <a:noFill/>
          </a:ln>
        </p:spPr>
      </p:pic>
      <p:cxnSp>
        <p:nvCxnSpPr>
          <p:cNvPr id="217" name="Straight Arrow Connector 13"/>
          <p:cNvCxnSpPr/>
          <p:nvPr/>
        </p:nvCxnSpPr>
        <p:spPr>
          <a:xfrm flipH="1">
            <a:off x="7144560" y="2147400"/>
            <a:ext cx="932760" cy="405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74A0-4B57-428A-9BC9-A0B593F3485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6352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Download the iOS SDK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82947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Download the latest from the Apple App store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This is only available for Apple Macintosh computers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It’s free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To build to device and submit to the app store, you will be required to becomes a register Apple iOS developer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It’s $99 year for the basic account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If you plan to get a job in iOS development, you will need to establish a basic account and submit something to the Apple Store. Maybe a game?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F7B0-6FBD-45C4-87FB-38C3E7CCFC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Attributes Inspector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pic>
        <p:nvPicPr>
          <p:cNvPr id="219" name="Content Placeholder 4" descr="Screen Shot 2012-03-02 at 9.20.58 PM.png"/>
          <p:cNvPicPr/>
          <p:nvPr/>
        </p:nvPicPr>
        <p:blipFill>
          <a:blip r:embed="rId1"/>
          <a:srcRect l="0" t="-10798" r="0" b="-10798"/>
          <a:stretch/>
        </p:blipFill>
        <p:spPr>
          <a:xfrm>
            <a:off x="457200" y="1600200"/>
            <a:ext cx="8294760" cy="4444920"/>
          </a:xfrm>
          <a:prstGeom prst="rect">
            <a:avLst/>
          </a:prstGeom>
          <a:ln w="0">
            <a:noFill/>
          </a:ln>
        </p:spPr>
      </p:pic>
      <p:cxnSp>
        <p:nvCxnSpPr>
          <p:cNvPr id="220" name="Straight Arrow Connector 7"/>
          <p:cNvCxnSpPr/>
          <p:nvPr/>
        </p:nvCxnSpPr>
        <p:spPr>
          <a:xfrm flipH="1">
            <a:off x="7322400" y="2329920"/>
            <a:ext cx="988200" cy="420120"/>
          </a:xfrm>
          <a:prstGeom prst="straightConnector1">
            <a:avLst/>
          </a:prstGeom>
          <a:ln w="25560">
            <a:solidFill>
              <a:srgbClr val="ff6600"/>
            </a:solidFill>
            <a:miter/>
            <a:tailEnd len="med" type="arrow" w="med"/>
          </a:ln>
        </p:spPr>
      </p:cxnSp>
      <p:cxnSp>
        <p:nvCxnSpPr>
          <p:cNvPr id="221" name="Straight Arrow Connector 9"/>
          <p:cNvCxnSpPr/>
          <p:nvPr/>
        </p:nvCxnSpPr>
        <p:spPr>
          <a:xfrm>
            <a:off x="307800" y="3083040"/>
            <a:ext cx="1221840" cy="986400"/>
          </a:xfrm>
          <a:prstGeom prst="straightConnector1">
            <a:avLst/>
          </a:prstGeom>
          <a:ln w="25560">
            <a:solidFill>
              <a:srgbClr val="3366ff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FCC5A-3A09-4930-8BE9-6CD04187BBB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409320"/>
            <a:ext cx="829476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More cell attributes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1719360"/>
            <a:ext cx="4871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Set the Accessory attribute to Disclosure Indicator.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Give the cell an identifier of </a:t>
            </a:r>
            <a:r>
              <a:rPr b="1" lang="en-US" sz="2400" spc="-1" strike="noStrike">
                <a:solidFill>
                  <a:srgbClr val="2d00ea"/>
                </a:solidFill>
                <a:latin typeface="Verdana"/>
              </a:rPr>
              <a:t>ThingsCell</a:t>
            </a: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The warning from Xcode is a reminder to developers – there is something you need to do if you want this to work.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Verdana"/>
              </a:rPr>
              <a:t>(Side note – warnings are something you should not overlook.  Several program crashes can stem from warnings people don’t pay attention to.)</a:t>
            </a:r>
            <a:endParaRPr b="0" lang="en-US" sz="24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224" name="Content Placeholder 8" descr="Screen Shot 2012-03-02 at 9.35.22 PM.png"/>
          <p:cNvPicPr/>
          <p:nvPr/>
        </p:nvPicPr>
        <p:blipFill>
          <a:blip r:embed="rId1"/>
          <a:srcRect l="0" t="-10312" r="0" b="-10312"/>
          <a:stretch/>
        </p:blipFill>
        <p:spPr>
          <a:xfrm>
            <a:off x="5094360" y="1536840"/>
            <a:ext cx="3657600" cy="45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216A-2D4E-4949-B4F5-5CA572B4015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13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Add a UIViewController subclass template…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2031480"/>
            <a:ext cx="82947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2f2b20"/>
                </a:solidFill>
                <a:latin typeface="Verdana"/>
              </a:rPr>
              <a:t>Add a new file to the project.</a:t>
            </a:r>
            <a:endParaRPr b="0" lang="en-US" sz="3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99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2f2b20"/>
                </a:solidFill>
                <a:latin typeface="Verdana"/>
              </a:rPr>
              <a:t>Choose UIViewController subclass template.</a:t>
            </a:r>
            <a:endParaRPr b="0" lang="en-US" sz="3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99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2f2b20"/>
                </a:solidFill>
                <a:latin typeface="Verdana"/>
              </a:rPr>
              <a:t>Name the class </a:t>
            </a:r>
            <a:r>
              <a:rPr b="1" lang="en-US" sz="3200" spc="-1" strike="noStrike">
                <a:solidFill>
                  <a:srgbClr val="2d00ea"/>
                </a:solidFill>
                <a:latin typeface="Verdana"/>
              </a:rPr>
              <a:t>ThingsViewController</a:t>
            </a:r>
            <a:r>
              <a:rPr b="0" lang="en-US" sz="3200" spc="-1" strike="noStrike">
                <a:solidFill>
                  <a:srgbClr val="2f2b20"/>
                </a:solidFill>
                <a:latin typeface="Verdana"/>
              </a:rPr>
              <a:t>, this will be a subclass of UITableViewController</a:t>
            </a:r>
            <a:endParaRPr b="0" lang="en-US" sz="32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F265-14C7-4C0F-8A3B-F30A9D535C0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New file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pic>
        <p:nvPicPr>
          <p:cNvPr id="228" name="Content Placeholder 3" descr="Screen Shot 2012-03-02 at 9.36.55 PM.png"/>
          <p:cNvPicPr/>
          <p:nvPr/>
        </p:nvPicPr>
        <p:blipFill>
          <a:blip r:embed="rId1"/>
          <a:srcRect l="-35017" t="0" r="-35017" b="0"/>
          <a:stretch/>
        </p:blipFill>
        <p:spPr>
          <a:xfrm>
            <a:off x="457200" y="1600200"/>
            <a:ext cx="8294760" cy="444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2806-A17E-4F2C-B1D8-878C814A536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Objective-C Class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pic>
        <p:nvPicPr>
          <p:cNvPr id="230" name="Content Placeholder 3" descr="Screen Shot 2012-03-02 at 9.37.03 PM.png"/>
          <p:cNvPicPr/>
          <p:nvPr/>
        </p:nvPicPr>
        <p:blipFill>
          <a:blip r:embed="rId1"/>
          <a:srcRect l="-3933" t="0" r="-3933" b="0"/>
          <a:stretch/>
        </p:blipFill>
        <p:spPr>
          <a:xfrm>
            <a:off x="457200" y="1600200"/>
            <a:ext cx="8294760" cy="444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CD96-077A-4F7F-A131-957458D0D0E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ThingsViewController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pic>
        <p:nvPicPr>
          <p:cNvPr id="232" name="Content Placeholder 3" descr="Screen Shot 2012-03-02 at 9.37.16 PM.png"/>
          <p:cNvPicPr/>
          <p:nvPr/>
        </p:nvPicPr>
        <p:blipFill>
          <a:blip r:embed="rId1"/>
          <a:srcRect l="-3965" t="0" r="-3965" b="0"/>
          <a:stretch/>
        </p:blipFill>
        <p:spPr>
          <a:xfrm>
            <a:off x="457200" y="1600200"/>
            <a:ext cx="8294760" cy="444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8E4D-5B91-409F-967B-3F36517B0C0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Create to add to project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pic>
        <p:nvPicPr>
          <p:cNvPr id="234" name="Content Placeholder 3" descr="Screen Shot 2012-03-02 at 9.37.26 PM.png"/>
          <p:cNvPicPr/>
          <p:nvPr/>
        </p:nvPicPr>
        <p:blipFill>
          <a:blip r:embed="rId1"/>
          <a:srcRect l="-23385" t="0" r="-23385" b="0"/>
          <a:stretch/>
        </p:blipFill>
        <p:spPr>
          <a:xfrm>
            <a:off x="457200" y="1600200"/>
            <a:ext cx="8294760" cy="444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C00B-C94D-4346-8520-4558892505E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Set the class with Identify Inspector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2600" y="1536840"/>
            <a:ext cx="508176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Click on the TableViewController object (the whole object will be outlined in blue)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Now, click class and select ThingsViewController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237" name="Content Placeholder 5" descr="Screen Shot 2012-03-02 at 9.41.43 PM.png"/>
          <p:cNvPicPr/>
          <p:nvPr/>
        </p:nvPicPr>
        <p:blipFill>
          <a:blip r:embed="rId1"/>
          <a:srcRect l="0" t="-21624" r="0" b="-21624"/>
          <a:stretch/>
        </p:blipFill>
        <p:spPr>
          <a:xfrm>
            <a:off x="5094360" y="1536840"/>
            <a:ext cx="3657600" cy="45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2138-0D99-4751-A4A2-1948CEC5A07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Build and run!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808280"/>
            <a:ext cx="8302680" cy="18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Go ahead and build the app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You can now add items to the table view if you want to continue working with this app.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2C9C-0D73-4F4E-9A0B-416C0B98804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HelloTabBar Example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368000"/>
            <a:ext cx="86868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99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Verdana"/>
              </a:rPr>
              <a:t>Download:</a:t>
            </a:r>
            <a:endParaRPr b="0" lang="en-US" sz="3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99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25814"/>
                </a:solidFill>
                <a:uFillTx/>
                <a:latin typeface="Verdana"/>
                <a:hlinkClick r:id="rId1"/>
              </a:rPr>
              <a:t>http://bhecker.com/ip-HelloTabBar.zip</a:t>
            </a:r>
            <a:endParaRPr b="0" lang="en-US" sz="3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99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Verdana"/>
              </a:rPr>
              <a:t>Save to your desktop.</a:t>
            </a:r>
            <a:endParaRPr b="0" lang="en-US" sz="3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99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Verdana"/>
              </a:rPr>
              <a:t>Double-click to uncompress the file</a:t>
            </a:r>
            <a:endParaRPr b="0" lang="en-US" sz="3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99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Verdana"/>
              </a:rPr>
              <a:t>Double-click on “HelloTabBar.xcode.proj” to load the project in XCode</a:t>
            </a:r>
            <a:endParaRPr b="0" lang="en-US" sz="32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99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Verdana"/>
              </a:rPr>
              <a:t>Examine and customize as you wish!</a:t>
            </a:r>
            <a:endParaRPr b="0" lang="en-US" sz="32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9D52-490D-4465-884D-3FA590E8FE1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5400" y="227160"/>
            <a:ext cx="878508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Let’s get started - Launch Xcode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536840"/>
            <a:ext cx="49068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You are presented with the Welcome screen: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  <a:p>
            <a:pPr lvl="1" marL="639720" indent="-228600">
              <a:lnSpc>
                <a:spcPct val="90000"/>
              </a:lnSpc>
              <a:spcBef>
                <a:spcPts val="649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Verdana"/>
              </a:rPr>
              <a:t>Create a new project</a:t>
            </a:r>
            <a:endParaRPr b="0" lang="en-US" sz="2600" spc="-1" strike="noStrike">
              <a:solidFill>
                <a:srgbClr val="2f2b20"/>
              </a:solidFill>
              <a:latin typeface="Verdana"/>
            </a:endParaRPr>
          </a:p>
          <a:p>
            <a:pPr lvl="1" marL="639720" indent="-228600">
              <a:lnSpc>
                <a:spcPct val="90000"/>
              </a:lnSpc>
              <a:spcBef>
                <a:spcPts val="649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Verdana"/>
              </a:rPr>
              <a:t>Connect to a repository</a:t>
            </a:r>
            <a:endParaRPr b="0" lang="en-US" sz="2600" spc="-1" strike="noStrike">
              <a:solidFill>
                <a:srgbClr val="2f2b20"/>
              </a:solidFill>
              <a:latin typeface="Verdana"/>
            </a:endParaRPr>
          </a:p>
          <a:p>
            <a:pPr lvl="1" marL="639720" indent="-228600">
              <a:lnSpc>
                <a:spcPct val="90000"/>
              </a:lnSpc>
              <a:spcBef>
                <a:spcPts val="649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Verdana"/>
              </a:rPr>
              <a:t>Learn about using Xcode</a:t>
            </a:r>
            <a:endParaRPr b="0" lang="en-US" sz="2600" spc="-1" strike="noStrike">
              <a:solidFill>
                <a:srgbClr val="2f2b20"/>
              </a:solidFill>
              <a:latin typeface="Verdana"/>
            </a:endParaRPr>
          </a:p>
          <a:p>
            <a:pPr lvl="1" marL="639720" indent="-228600">
              <a:lnSpc>
                <a:spcPct val="90000"/>
              </a:lnSpc>
              <a:spcBef>
                <a:spcPts val="649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Verdana"/>
              </a:rPr>
              <a:t>Go to Apple’s Portal</a:t>
            </a:r>
            <a:endParaRPr b="0" lang="en-US" sz="26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90000"/>
              </a:lnSpc>
              <a:spcBef>
                <a:spcPts val="726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f2b20"/>
                </a:solidFill>
                <a:latin typeface="Verdana"/>
              </a:rPr>
              <a:t>Go ahead and click on “Create a new project”</a:t>
            </a:r>
            <a:endParaRPr b="0" lang="en-US" sz="29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53" name="Content Placeholder 4" descr="Screen Shot 2012-02-20 at 11.24.39 PM.png"/>
          <p:cNvPicPr/>
          <p:nvPr/>
        </p:nvPicPr>
        <p:blipFill>
          <a:blip r:embed="rId1"/>
          <a:srcRect l="0" t="-47083" r="0" b="-47083"/>
          <a:stretch/>
        </p:blipFill>
        <p:spPr>
          <a:xfrm>
            <a:off x="5094360" y="1536840"/>
            <a:ext cx="3657600" cy="45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D0FF-6368-43F1-87B5-5FCCC15490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5600" y="3348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The End of Part 1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Next… Part 2</a:t>
            </a:r>
            <a:br>
              <a:rPr sz="4000"/>
            </a:b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Objective-C Programming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007C3-EB9D-41F3-AD46-98A64AE1319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Project Template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3160" y="1536840"/>
            <a:ext cx="41562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There are several predefined templates to help you get started on a new project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spcBef>
                <a:spcPts val="774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f2b20"/>
                </a:solidFill>
                <a:latin typeface="Verdana"/>
              </a:rPr>
              <a:t>For now, click on </a:t>
            </a:r>
            <a:r>
              <a:rPr b="1" lang="en-US" sz="3100" spc="-1" strike="noStrike">
                <a:solidFill>
                  <a:srgbClr val="2f2b20"/>
                </a:solidFill>
                <a:latin typeface="Verdana"/>
              </a:rPr>
              <a:t>Single View Application</a:t>
            </a:r>
            <a:endParaRPr b="0" lang="en-US" sz="31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56" name="Content Placeholder 4" descr="Screen Shot 2012-02-20 at 11.27.55 PM.png"/>
          <p:cNvPicPr/>
          <p:nvPr/>
        </p:nvPicPr>
        <p:blipFill>
          <a:blip r:embed="rId1"/>
          <a:srcRect l="0" t="-43675" r="0" b="-43675"/>
          <a:stretch/>
        </p:blipFill>
        <p:spPr>
          <a:xfrm>
            <a:off x="4716360" y="1536840"/>
            <a:ext cx="4035600" cy="506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2D9D1-8291-4796-8B3D-69A0048BF8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7160"/>
            <a:ext cx="829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00ea"/>
                </a:solidFill>
                <a:latin typeface="Verdana"/>
              </a:rPr>
              <a:t>Project Options</a:t>
            </a:r>
            <a:endParaRPr b="0" lang="en-US" sz="4000" spc="-1" strike="noStrike">
              <a:solidFill>
                <a:srgbClr val="2d00ea"/>
              </a:solidFill>
              <a:latin typeface="Verdan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86840" y="1536840"/>
            <a:ext cx="490716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Verdana"/>
              </a:rPr>
              <a:t>The Product Name is the name of your app</a:t>
            </a:r>
            <a:endParaRPr b="0" lang="en-US" sz="20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Verdana"/>
              </a:rPr>
              <a:t>Company Identifier is your organization name – such as edu.itu (reverse domain)</a:t>
            </a:r>
            <a:endParaRPr b="0" lang="en-US" sz="20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Verdana"/>
              </a:rPr>
              <a:t>Class Prefix (leave empty)</a:t>
            </a:r>
            <a:endParaRPr b="0" lang="en-US" sz="20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Verdana"/>
              </a:rPr>
              <a:t>Device Family:  iPad, iPhone, Universal (Universal means that a single binary will have screens for iPhone, iPod Touch, and iPads)</a:t>
            </a:r>
            <a:endParaRPr b="0" lang="en-US" sz="20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Verdana"/>
              </a:rPr>
              <a:t>Storyboards</a:t>
            </a:r>
            <a:endParaRPr b="0" lang="en-US" sz="20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Verdana"/>
              </a:rPr>
              <a:t>Automatic Reference Counting</a:t>
            </a:r>
            <a:endParaRPr b="0" lang="en-US" sz="2000" spc="-1" strike="noStrike">
              <a:solidFill>
                <a:srgbClr val="2f2b20"/>
              </a:solidFill>
              <a:latin typeface="Verdana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2d00ea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Verdana"/>
              </a:rPr>
              <a:t>Include Unit Tests (leave unchecked as we are not using)</a:t>
            </a:r>
            <a:endParaRPr b="0" lang="en-US" sz="20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59" name="Content Placeholder 4" descr="Screen Shot 2012-02-20 at 11.29.25 PM.png"/>
          <p:cNvPicPr/>
          <p:nvPr/>
        </p:nvPicPr>
        <p:blipFill>
          <a:blip r:embed="rId1"/>
          <a:srcRect l="0" t="-43288" r="0" b="-43288"/>
          <a:stretch/>
        </p:blipFill>
        <p:spPr>
          <a:xfrm>
            <a:off x="5094360" y="1536840"/>
            <a:ext cx="3657600" cy="45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A964-8A2A-4568-A5CD-E6F5DFA335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21:10:10Z</dcterms:created>
  <dc:creator>Barbara Hecker</dc:creator>
  <dc:description/>
  <dc:language>en-US</dc:language>
  <cp:lastModifiedBy>Barbara Hecker</cp:lastModifiedBy>
  <dcterms:modified xsi:type="dcterms:W3CDTF">2012-06-15T02:13:54Z</dcterms:modified>
  <cp:revision>177</cp:revision>
  <dc:subject/>
  <dc:title>iOS Workshop - Part 1</dc:title>
</cp:coreProperties>
</file>